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7ED-154D-48F4-9571-D682D1B4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634-E56F-4EEA-AFA9-606BCC04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A47-EA53-495C-A6A9-E5B6F833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51E-EF7D-46DC-8FCA-DD70BB1C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3BA-F610-4A6F-9C96-D95C6375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040-6008-4617-96A0-11B52F4D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B55-AD16-46D3-9EA2-C68BDBF8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B25-5EBD-4828-943D-F3DF36AF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B5F-BA00-43EA-9C02-8A7D2DB8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2CE-4C32-4511-8DF6-EBBF5607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BC4-F28B-4976-A798-2AB673AD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687-91AC-4D19-9365-34E1CA43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D68C-E091-41DC-BBFC-CD8C1DBD40A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ска хемиј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ставна јединица 13 (тринаеста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8513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6960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 је отеж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зводи се у јако киселој сред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исуство позитивног азота дезактивира пр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133720" y="3581280"/>
          <a:ext cx="350496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350496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6"/>
          <p:cNvSpPr/>
          <p:nvPr/>
        </p:nvSpPr>
        <p:spPr>
          <a:xfrm>
            <a:off x="4421160" y="502920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ијум ј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1434960" y="1379520"/>
          <a:ext cx="694692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379520"/>
                    <a:ext cx="694692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7"/>
          <p:cNvGraphicFramePr/>
          <p:nvPr/>
        </p:nvGraphicFramePr>
        <p:xfrm>
          <a:off x="609480" y="1752480"/>
          <a:ext cx="769644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6964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10"/>
          <p:cNvSpPr/>
          <p:nvPr/>
        </p:nvSpPr>
        <p:spPr>
          <a:xfrm>
            <a:off x="254880" y="5638680"/>
            <a:ext cx="88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слови за електрофилну супституцију углавном подразумевају киселу сред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уклеофилна супституција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упституција вод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838080" y="2895480"/>
          <a:ext cx="7239240" cy="35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723924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8"/>
          <p:cNvSpPr/>
          <p:nvPr/>
        </p:nvSpPr>
        <p:spPr>
          <a:xfrm>
            <a:off x="-5040" y="1371600"/>
            <a:ext cx="93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Резонанциона структура са негативним азотом је изузетно стабил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аква структура није могућа ако се нуклеофилна супституција одвија у положају 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то значи да овај положај није повољан за нуклеофилну супститу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2666880" y="2819520"/>
            <a:ext cx="1371600" cy="160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уклеофилна супституција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упституција хал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алогени везани за пиридинов прстен, у било ком положају реактивнији су од халогена везаног за бензен, па лако могу да се супституишу другим нуклеофи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пак халогени у положајима 2 и 4 реактивнији су од халогена у положају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 зависности од положаја халогена у прстену, нуклеофилна супституција се, углавном одиграва пр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Е (адиција-елиминација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механизму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ЕА (елиминација-адиција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пституција халогена из положаја 2 и 4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AE меха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070800" y="5869080"/>
            <a:ext cx="27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Nu= OH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, NH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, CN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, CH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457200" y="1828800"/>
          <a:ext cx="838188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38188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пституција халогена из положаја 3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EA меха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609480" y="1212840"/>
          <a:ext cx="792504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2840"/>
                    <a:ext cx="792504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6"/>
          <p:cNvSpPr/>
          <p:nvPr/>
        </p:nvSpPr>
        <p:spPr>
          <a:xfrm flipH="1" flipV="1">
            <a:off x="5714640" y="35812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098760" y="467532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ихидропир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04920" y="5591160"/>
            <a:ext cx="71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ада је јако базна средина, нуклеофилна супституција хал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 положајима 2 и 4, такође се одиграва по овом мех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ривати пиридина (метилпиридини, пиридинкарбонске кисели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1905120" y="1676520"/>
          <a:ext cx="480060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48006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7"/>
          <p:cNvSpPr/>
          <p:nvPr/>
        </p:nvSpPr>
        <p:spPr>
          <a:xfrm>
            <a:off x="3812040" y="320040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пико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794200" y="3200400"/>
            <a:ext cx="11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пико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760400" y="320040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пико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0"/>
          <p:cNvGraphicFramePr/>
          <p:nvPr/>
        </p:nvGraphicFramePr>
        <p:xfrm>
          <a:off x="1981080" y="4495680"/>
          <a:ext cx="480060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495680"/>
                    <a:ext cx="480060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2"/>
          <p:cNvSpPr/>
          <p:nvPr/>
        </p:nvSpPr>
        <p:spPr>
          <a:xfrm>
            <a:off x="1706040" y="586908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коли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766320" y="594504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5624280" y="5894280"/>
            <a:ext cx="16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оникоти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1066680" y="3809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пшта метода за добијање пиридинкарбонских киселина је оксид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дговарајућих пиколина калијум-перманганатом у алкалној среди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емијске особине метил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533520" y="1676520"/>
          <a:ext cx="761976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6197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Oval 5"/>
          <p:cNvSpPr/>
          <p:nvPr/>
        </p:nvSpPr>
        <p:spPr>
          <a:xfrm rot="19877400">
            <a:off x="3733560" y="1523520"/>
            <a:ext cx="1222200" cy="160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5334120" y="4495680"/>
            <a:ext cx="990360" cy="160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емијске особине метил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Због изразито киселих особина, 2- и 4-метилпиридини могу да се кондензују са алдехидима у присуству цинк-хлорида или анхидрида сирћетне кисел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62120" y="2971800"/>
          <a:ext cx="7848360" cy="31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848360" cy="31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12"/>
          <p:cNvSpPr/>
          <p:nvPr/>
        </p:nvSpPr>
        <p:spPr>
          <a:xfrm>
            <a:off x="3429000" y="5029200"/>
            <a:ext cx="3808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3429000" y="5867280"/>
            <a:ext cx="3808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есточлани хетероцикли са једним хетероато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3"/>
          <p:cNvGraphicFramePr/>
          <p:nvPr/>
        </p:nvGraphicFramePr>
        <p:xfrm>
          <a:off x="1447920" y="2590920"/>
          <a:ext cx="60102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590920"/>
                    <a:ext cx="60102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 Box 6"/>
          <p:cNvSpPr/>
          <p:nvPr/>
        </p:nvSpPr>
        <p:spPr>
          <a:xfrm>
            <a:off x="1281600" y="4191120"/>
            <a:ext cx="67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                пирилијум-катјон                    тинилијум-катј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идин N-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514600" y="990720"/>
          <a:ext cx="4114800" cy="14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990720"/>
                    <a:ext cx="411480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5"/>
          <p:cNvGraphicFramePr/>
          <p:nvPr/>
        </p:nvGraphicFramePr>
        <p:xfrm>
          <a:off x="1447920" y="3352680"/>
          <a:ext cx="6172200" cy="324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352680"/>
                    <a:ext cx="6172200" cy="32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7"/>
          <p:cNvSpPr/>
          <p:nvPr/>
        </p:nvSpPr>
        <p:spPr>
          <a:xfrm>
            <a:off x="1059480" y="243828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N-оксидна група се понаша као </a:t>
            </a:r>
            <a:r>
              <a:rPr b="1" lang="sr-CS" sz="1800" spc="-1" strike="noStrike">
                <a:solidFill>
                  <a:srgbClr val="ff0000"/>
                </a:solidFill>
                <a:latin typeface="Times New Roman"/>
              </a:rPr>
              <a:t>донор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ли као </a:t>
            </a:r>
            <a:r>
              <a:rPr b="1" lang="sr-CS" sz="1800" spc="-1" strike="noStrike">
                <a:solidFill>
                  <a:srgbClr val="0066ff"/>
                </a:solidFill>
                <a:latin typeface="Times New Roman"/>
              </a:rPr>
              <a:t>акцептор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електр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тако да је могућа како електрофилна тако и нуклеофилна супституци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971800" y="3276720"/>
            <a:ext cx="4724280" cy="1600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971800" y="5029200"/>
            <a:ext cx="4724280" cy="16765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3"/>
          <p:cNvGraphicFramePr/>
          <p:nvPr/>
        </p:nvGraphicFramePr>
        <p:xfrm>
          <a:off x="990720" y="1066680"/>
          <a:ext cx="7391160" cy="538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391160" cy="53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6"/>
          <p:cNvSpPr/>
          <p:nvPr/>
        </p:nvSpPr>
        <p:spPr>
          <a:xfrm>
            <a:off x="609480" y="214200"/>
            <a:ext cx="812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тровање пиридин N-оксида изводи се пушљивом азотном и сумпорном киселином при чему се добија 4-нитропиридин N-оксид. Ово једињење служи за добијање других деривата пиридин N-оксида, односно пиридина, пошто се оксидни кисеоник лако укл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 пиридинск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6"/>
          <p:cNvGraphicFramePr/>
          <p:nvPr/>
        </p:nvGraphicFramePr>
        <p:xfrm>
          <a:off x="1981080" y="1447920"/>
          <a:ext cx="50086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47920"/>
                    <a:ext cx="50086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7"/>
          <p:cNvSpPr/>
          <p:nvPr/>
        </p:nvSpPr>
        <p:spPr>
          <a:xfrm>
            <a:off x="2058480" y="32529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 (алкало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182560" y="32529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набазин (алкало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218960" y="601992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рамин (респираторни стимулан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106600" y="59961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ониазид (антитуберкуло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 пиридинск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533520" y="2133720"/>
          <a:ext cx="7729560" cy="15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772956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7"/>
          <p:cNvSpPr/>
          <p:nvPr/>
        </p:nvSpPr>
        <p:spPr>
          <a:xfrm>
            <a:off x="1203840" y="4091040"/>
            <a:ext cx="68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оксол                         пиридоксал                       пиридокс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 rot="5400000">
            <a:off x="4457160" y="1257120"/>
            <a:ext cx="380880" cy="7467480"/>
          </a:xfrm>
          <a:custGeom>
            <a:avLst/>
            <a:gdLst>
              <a:gd name="textAreaLeft" fmla="*/ 0 w 380880"/>
              <a:gd name="textAreaRight" fmla="*/ 267120 w 380880"/>
              <a:gd name="textAreaTop" fmla="*/ 311040 h 7467480"/>
              <a:gd name="textAreaBottom" fmla="*/ 7156440 h 746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587040" y="5462640"/>
            <a:ext cx="265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витамин B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(пиридокс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 пиридинск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5618160" y="1066680"/>
          <a:ext cx="302436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8160" y="1066680"/>
                    <a:ext cx="302436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7"/>
          <p:cNvGraphicFramePr/>
          <p:nvPr/>
        </p:nvGraphicFramePr>
        <p:xfrm>
          <a:off x="380880" y="1752480"/>
          <a:ext cx="4648320" cy="11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52480"/>
                    <a:ext cx="46483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9"/>
          <p:cNvSpPr/>
          <p:nvPr/>
        </p:nvSpPr>
        <p:spPr>
          <a:xfrm>
            <a:off x="15120" y="284652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ниац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897280" y="284652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ам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витамин Р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76320" y="41148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амид улази у састав важних коензима као што с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*никотинамид-аденин-динуклеотид (NAD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)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*никотинамид-аденин-динуклеотид-фосфат (NADP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5943600" y="5943600"/>
            <a:ext cx="2538360" cy="7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R= H          NAD</a:t>
            </a:r>
            <a:r>
              <a:rPr b="0" lang="sr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R= PO(OH)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      NADP</a:t>
            </a:r>
            <a:r>
              <a:rPr b="0" lang="sr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64771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701028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бијање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6"/>
          <p:cNvGraphicFramePr/>
          <p:nvPr/>
        </p:nvGraphicFramePr>
        <p:xfrm>
          <a:off x="2590920" y="2362320"/>
          <a:ext cx="335268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62320"/>
                    <a:ext cx="33526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2740680" y="1371600"/>
            <a:ext cx="29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дустријско доби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15"/>
          <p:cNvGraphicFramePr/>
          <p:nvPr/>
        </p:nvGraphicFramePr>
        <p:xfrm>
          <a:off x="2362320" y="3886200"/>
          <a:ext cx="403848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886200"/>
                    <a:ext cx="40384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16"/>
          <p:cNvSpPr/>
          <p:nvPr/>
        </p:nvSpPr>
        <p:spPr>
          <a:xfrm>
            <a:off x="1829520" y="502920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тетрахидрофурфур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кох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бијање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1"/>
          <p:cNvGraphicFramePr/>
          <p:nvPr/>
        </p:nvGraphicFramePr>
        <p:xfrm>
          <a:off x="380880" y="1523880"/>
          <a:ext cx="861084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6108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7"/>
          <p:cNvSpPr/>
          <p:nvPr/>
        </p:nvSpPr>
        <p:spPr>
          <a:xfrm>
            <a:off x="1295640" y="281952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олуметилал-формалдех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72720" y="3657600"/>
            <a:ext cx="88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колико се формалдехид замени ацеталдехидом добија се 3-метилпиридин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коли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13"/>
          <p:cNvGraphicFramePr/>
          <p:nvPr/>
        </p:nvGraphicFramePr>
        <p:xfrm>
          <a:off x="304920" y="4800600"/>
          <a:ext cx="86868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800600"/>
                    <a:ext cx="86868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бијање деривата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990720" y="2057400"/>
          <a:ext cx="761832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6183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5"/>
          <p:cNvSpPr/>
          <p:nvPr/>
        </p:nvSpPr>
        <p:spPr>
          <a:xfrm>
            <a:off x="835200" y="12952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Hantzsch-ова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бијање деривата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1295280" y="1219320"/>
          <a:ext cx="647712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47712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5"/>
          <p:cNvSpPr/>
          <p:nvPr/>
        </p:nvSpPr>
        <p:spPr>
          <a:xfrm>
            <a:off x="1067760" y="259092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,6-дифенилпирилијум-катј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rcRect l="0" t="62012" r="0" b="0"/>
          <a:stretch/>
        </p:blipFill>
        <p:spPr>
          <a:xfrm>
            <a:off x="1371600" y="3886200"/>
            <a:ext cx="669600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32520" y="3124080"/>
            <a:ext cx="42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нска структу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5560" y="5462640"/>
            <a:ext cx="812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зот има улогу дезактивирајуће групе и смањује електронску густину у прсте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што јако отежава електрофилну супституци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абилност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Врло стабилно једињење са израженим ароматичним особин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Енергија резонанције 179,7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Стабилност пиридинског прстена је нарочито изражена према оксидационим средств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1219320" y="3733920"/>
          <a:ext cx="624816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33920"/>
                    <a:ext cx="62481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7"/>
          <p:cNvSpPr/>
          <p:nvPr/>
        </p:nvSpPr>
        <p:spPr>
          <a:xfrm>
            <a:off x="2971800" y="3886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059000" y="490392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оли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478560" y="487692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азне особ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 је слаба база, знатно слабија од терцијерних алифатичних ам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ндуктивни и резонанциони ефекат присутних група знатно утиче на базност пири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6"/>
          <p:cNvGraphicFramePr/>
          <p:nvPr/>
        </p:nvGraphicFramePr>
        <p:xfrm>
          <a:off x="2362320" y="2584440"/>
          <a:ext cx="350496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84440"/>
                    <a:ext cx="350496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8"/>
          <p:cNvSpPr/>
          <p:nvPr/>
        </p:nvSpPr>
        <p:spPr>
          <a:xfrm>
            <a:off x="3279240" y="3657600"/>
            <a:ext cx="90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= 8,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2"/>
          <p:cNvGraphicFramePr/>
          <p:nvPr/>
        </p:nvGraphicFramePr>
        <p:xfrm>
          <a:off x="1219320" y="3962520"/>
          <a:ext cx="67053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962520"/>
                    <a:ext cx="67053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13"/>
          <p:cNvSpPr/>
          <p:nvPr/>
        </p:nvSpPr>
        <p:spPr>
          <a:xfrm>
            <a:off x="1221480" y="5791320"/>
            <a:ext cx="99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= 10,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745720" y="5791320"/>
            <a:ext cx="90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= 7,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269240" y="5791320"/>
            <a:ext cx="99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= 13,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6326640" y="5791320"/>
            <a:ext cx="99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= 10,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дукција пири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1447920" y="1506600"/>
          <a:ext cx="6019560" cy="14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06600"/>
                    <a:ext cx="6019560" cy="14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10"/>
          <p:cNvGraphicFramePr/>
          <p:nvPr/>
        </p:nvGraphicFramePr>
        <p:xfrm>
          <a:off x="1905120" y="4267080"/>
          <a:ext cx="87624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267080"/>
                    <a:ext cx="876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1559160" y="3009960"/>
            <a:ext cx="58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,2-                 3,4-               2,3-                  2,5-                1,4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ихидропири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2"/>
          <p:cNvGraphicFramePr/>
          <p:nvPr/>
        </p:nvGraphicFramePr>
        <p:xfrm>
          <a:off x="4343400" y="4419720"/>
          <a:ext cx="3868560" cy="10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4419720"/>
                    <a:ext cx="38685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14"/>
          <p:cNvSpPr/>
          <p:nvPr/>
        </p:nvSpPr>
        <p:spPr>
          <a:xfrm>
            <a:off x="1067040" y="579132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,2,5,6-тетрахидропир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945760" y="56656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пер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07:08:07Z</dcterms:created>
  <dc:creator>FullNameHere</dc:creator>
  <dc:description/>
  <dc:language>en-US</dc:language>
  <cp:lastModifiedBy>Гордана Радић</cp:lastModifiedBy>
  <dcterms:modified xsi:type="dcterms:W3CDTF">2016-09-06T07:32:45Z</dcterms:modified>
  <cp:revision>26</cp:revision>
  <dc:subject/>
  <dc:title>Slide 1</dc:title>
</cp:coreProperties>
</file>